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E7D-B8E6-4D9D-B5D4-9E99A82C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818-59DA-437B-9C28-EAB10A2D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8F8C4-9060-45DA-8BB7-4A5EDB9A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7192A-4285-4209-BB70-C11EB284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A8763-8665-48F4-AB7F-FBA7FB8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6E2DC-2C94-4232-89DE-DEB43CFF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60B34-903F-4341-A13D-F1302B6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0D381-5525-4CF3-B166-1CB2B15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7ADDE-355B-4255-95BD-6BE4589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D4986-3AB4-4ECB-9C15-D602AE19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94E14-4B15-4950-87A4-2A9249D1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E3C-FC27-4E28-A1C8-5BBAA3DC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F1E-2C3A-4584-B426-3C0BA89C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0E8A-497C-46E0-930E-A76B6D7B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B4C5-2697-4F23-86BE-961B2E64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3FCD-FFB6-45F2-9DE2-4C836D56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9411-0AD3-4E9B-82E5-3C8BEEC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2415-7915-4316-AE59-19ECD1AA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E230-F96B-4AE8-A9BE-26346EA2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42D4-E274-4D3C-B497-3260F79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4F2-3C22-4996-B8F9-0587056B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3F7A-5970-439A-B951-F51907E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DA9D-02EC-4B55-9443-0D8A9916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3377-46CB-4F7A-8973-20A7DFAD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EDEF-068E-4DC1-B71A-37C61907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39C-F1FA-4488-A427-21C2EC5E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1167-DCCD-46D0-9980-B2F4DAFB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270F-E6E1-46DF-A01D-4CE0F0B9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FEFC-DF9B-48A3-9BE8-F7528891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85FA-E085-428C-806A-A8027B1E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E7D2-831D-44BE-8FCE-4E7CF03F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A9A-B240-4A7F-AF2F-A0D9C11B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5236-C9EA-45FA-923D-1E73991B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31E43-64AC-4A28-8AE0-50695DA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332F-C553-4210-AFB0-DAA1708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6CF0D-C3F2-4363-9F27-5F68FB1E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C0F5-191F-412C-AD45-BF01CAC2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3021-E3E5-448A-95EF-1E13DBA0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FE56C-1579-4651-9073-63A9C2B6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E9B6-98F2-481A-AD23-DED460E6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7C95-247C-4F79-8C44-CD4C7B50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51C6-4FAE-41E3-9295-22516268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BEF-F93A-4780-9F51-E53DC4E1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B76C-39A5-4FFD-9CF4-3B99FC3C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DA11-851D-4099-A627-20FA1A71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E46D-0FB9-4075-980D-61E28BBF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7459-FE90-4AA8-898C-818455B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D56A-0F65-47EE-A8DC-66BC2B9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45527-318A-4A37-9A71-67B70CD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3C86-1FB0-4473-91EC-0F2CCAB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46171-94F3-462F-8DA2-F15B0CE5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28EE2-F010-43F4-BBFC-C7AE9DA0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43D4D-6EF1-42CC-8060-3274CFF3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014-4549-43BC-922F-5131A2B8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CC4F-72D6-473E-9809-2C390732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09046-B7E2-45EA-9BC5-BCBE9F29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5FADB-579C-44DB-81B1-DA955279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BB0E-E46C-4108-AE4D-2601D4F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3D2A-569A-42DB-B796-2799B77D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45A0-4972-42E9-B55C-33674473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2CE2-2B69-46B7-BD43-9B9AFECC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1B81B-1E42-4505-926F-2EDDA6E9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BB33A-D332-46ED-8BB4-48E90407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726C-07A2-4FBE-A290-F9C06FA4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67E-0285-456C-BC2F-4A63EE0B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73946-8374-4971-9AF5-6E5ACC8D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4D820-E152-4C3A-B361-5FC9718C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6495E-625B-4458-B8B5-A4D03997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74A7-2B61-4950-8C6C-8CC2F0B0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20C4-93A3-4A67-9C5D-BAF7075A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FFE90-BD30-46D0-B16C-60E786B7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8F7FE-6C6A-4ABB-AA25-F3A57438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0C0D8-21EB-47A2-A98C-C477546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7298A-F85D-4B35-896B-DC640B7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7A854-3B13-4E44-9CD0-3544C5C5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4B6-826F-4056-B880-822442E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11EE-10A1-44E3-9A58-770B5306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9669E-D040-46E5-A40C-CFE99403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80F7D-34DE-4BD9-8C18-0F609D96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6163-2B98-4EDF-9D8F-F76CFE20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FBE3D-6CD4-4549-B76B-3AC3CEB2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4A27B-4ABC-436A-BFA4-4588CD9E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BD05D-CFF7-4504-97A3-7F7603D5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789AD-15A4-4E24-8503-531C1683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E2E7-7627-4D9C-A0C4-9BD6BFD8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47033-68CE-41DA-A38A-4BFDB786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DA4-013C-4CFC-851E-2163D34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49D64-55FE-4F06-89AA-5C95F2F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AA8A-EBF1-47FE-8EF6-D7A3EA4B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8CC3-C0A2-44BE-AB09-6AF46757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C8F76-05EC-4474-A964-9006A222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0819E-CF99-4196-9347-AA336635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B8C6F-FA92-4164-AB79-607525F9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6FDF-CEF7-4BB8-BA49-89150514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C359-815C-4C78-BEE5-908575FE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C0B31-5587-4157-A81C-9BB09830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F63A3-64A8-4151-8A28-2097270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437-8427-4262-9D7B-FB3DFB88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12525-E3F4-4071-BA37-D66EBBF4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25901-28A2-4250-8E98-3520740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3E30A-E197-493E-8DAC-4B32F25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BCC1A-9E37-485C-A779-08922A6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FFF41-1BF8-4680-BE46-8B3E776C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AB26A-F332-433C-A741-550F3194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B0169-940A-4B1A-9C1D-7079354D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1DFFF-5A9F-4942-BC74-2F3C4F9D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2CBDD-844B-4745-9495-AEB8F7F2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F9DB8-6A4E-4FBF-BB57-5EFD602F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6A7B-831E-47C3-91D9-87C87DE28B11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1E42-A497-4E42-8BAE-C0776972DBFA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1FD8-AFE7-4832-9BDF-37D3C4A9174E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0F36-B0A9-4127-8617-537DA94017C7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C340-1B9D-4A9A-9117-80D401F238AD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DBC0-85D9-4982-B526-57A7F16F5C0F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F7E0-73FD-4DD7-AB81-B924056F0C2F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CB5C-09D8-482C-9951-E3A8273A5D0F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4027-9F0E-471D-AE5C-733602CDB5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u 1" descr=""/>
          <p:cNvPicPr/>
          <p:nvPr/>
        </p:nvPicPr>
        <p:blipFill>
          <a:blip r:embed="rId1"/>
          <a:stretch/>
        </p:blipFill>
        <p:spPr>
          <a:xfrm>
            <a:off x="536400" y="517680"/>
            <a:ext cx="8186760" cy="13237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luția americană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re proiec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tor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:GALEA DORI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ghezia, în căutarea unei ideologii proprii, a apelat inițial la ideologia religioasă protestantă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u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4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grup de americani, deghizaţi în indieni, au urcat la bordul navelor engleze şi au aruncat toată încărcătura de ceai în mar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2"/>
          <a:stretch/>
        </p:blipFill>
        <p:spPr>
          <a:xfrm>
            <a:off x="4876920" y="2243160"/>
            <a:ext cx="358128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xa pe timbru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xa pe ceai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ipsa de reprezentare în Parlamentul englez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omerț doar cu metropol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litica fiscală excesivă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ontraban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Picture 7" descr="270px-13_colonies_in_1775_%28large%29"/>
          <p:cNvPicPr/>
          <p:nvPr/>
        </p:nvPicPr>
        <p:blipFill>
          <a:blip r:embed="rId2"/>
          <a:stretch/>
        </p:blipFill>
        <p:spPr>
          <a:xfrm>
            <a:off x="5129280" y="1600200"/>
            <a:ext cx="30765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"/>
          <p:cNvPicPr/>
          <p:nvPr/>
        </p:nvPicPr>
        <p:blipFill>
          <a:blip r:embed="rId1"/>
          <a:stretch/>
        </p:blipFill>
        <p:spPr>
          <a:xfrm>
            <a:off x="2190600" y="2144880"/>
            <a:ext cx="4762800" cy="3198600"/>
          </a:xfrm>
          <a:prstGeom prst="rect">
            <a:avLst/>
          </a:prstGeom>
          <a:ln w="0">
            <a:noFill/>
          </a:ln>
        </p:spPr>
      </p:pic>
      <p:pic>
        <p:nvPicPr>
          <p:cNvPr id="428" name="Rectangle 4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30268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2190600" y="2144880"/>
            <a:ext cx="4762800" cy="3198600"/>
          </a:xfrm>
          <a:prstGeom prst="rect">
            <a:avLst/>
          </a:prstGeom>
          <a:ln w="0">
            <a:noFill/>
          </a:ln>
        </p:spPr>
      </p:pic>
      <p:pic>
        <p:nvPicPr>
          <p:cNvPr id="430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8" descr="280px-Yorktown80"/>
          <p:cNvPicPr/>
          <p:nvPr/>
        </p:nvPicPr>
        <p:blipFill>
          <a:blip r:embed="rId1"/>
          <a:stretch/>
        </p:blipFill>
        <p:spPr>
          <a:xfrm>
            <a:off x="4572000" y="38098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432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4"/>
          <p:cNvSpPr/>
          <p:nvPr/>
        </p:nvSpPr>
        <p:spPr>
          <a:xfrm>
            <a:off x="1066680" y="1905120"/>
            <a:ext cx="243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1781, în bătălia de la Yorktown, armatele americane şi franceze obţ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victorie decisiv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yorktown_map"/>
          <p:cNvPicPr/>
          <p:nvPr/>
        </p:nvPicPr>
        <p:blipFill>
          <a:blip r:embed="rId3"/>
          <a:stretch/>
        </p:blipFill>
        <p:spPr>
          <a:xfrm>
            <a:off x="4495680" y="91440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o-RO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luțiile burgheze reprezintă un pas important în drumul spre modernitate, spre o societate a drepturilor și libertăților cetățenesti impuse de principiul separării puterilor în sta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ie Jerome,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 atlas istoric al Timpurilor moderne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lirom,2001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I Pippidi, Monica Dvorski, Ioan Grosu,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orie, manual pentru clasa a VI-a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itura Corint, 200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e-scoala.ro/informatica/index.html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o.wikipedia.org/wiki/Portal:Educaţie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eferat</a:t>
            </a:r>
            <a:r>
              <a:rPr b="0" lang="ro-RO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/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2:41:04Z</dcterms:created>
  <dc:creator>Teo</dc:creator>
  <dc:description/>
  <dc:language>en-US</dc:language>
  <cp:lastModifiedBy>acer</cp:lastModifiedBy>
  <dcterms:modified xsi:type="dcterms:W3CDTF">2010-06-14T09:11:40Z</dcterms:modified>
  <cp:revision>13</cp:revision>
  <dc:subject/>
  <dc:title>Revoluțiile epocii moderne</dc:title>
</cp:coreProperties>
</file>